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095-3BDA-42AB-98EA-15B489F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E82-6DE1-4AC8-B564-F193C5E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3D0-3ACE-47E6-A6FF-F572AE9A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3A4-8709-474D-853C-A9141FCC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7E7-58C6-4BFE-9EBD-ACA9D717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676-8A7A-4A35-9DF1-B7BB0999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8BBD-8A94-42DB-819E-A8B560E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6C72-A7CD-4CC8-B446-EFBA02C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B3E-40EC-473A-A03D-D30541F0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45BD-C795-4E48-9F61-A78B3EE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8244-2447-4D61-B1A5-666097F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56D-CADB-4642-8B9A-F9D124D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0B6E-6DE4-4652-A179-9BBC133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697A-7347-4FBC-88DD-CCBCE5E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5DD9-2075-4772-A82F-E0A944C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5205-66D6-455F-A047-6A333793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B656-60EE-4EC3-AA86-76A9BE98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38D9D-2586-406E-9B2B-965FCEF8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C15EF-EA19-4A13-8308-6249CB1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8C14D-75DE-4759-AB44-22D54BCB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D5CA8-A98F-4805-8E0A-4D08490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A067D-A6E5-4C63-9DFE-D0964F3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E3E-6947-42C2-ABDB-E6C3C051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DB486-29AF-43AF-8267-BE1DE4F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FC834-9CE9-429C-9D04-31AFA60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10417-DE18-48E7-BEF7-85545E2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C62F7-C85B-4161-9C76-7178756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E983E-F126-44B6-9EB5-D82B7D50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3A75B-422E-4121-AC8F-0805549E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371DD-C3E4-4579-96B0-AED707FF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A961-B436-40B0-8105-5951DD68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27D9-D83F-4A48-80DB-E257B5B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41F3-BF29-44FD-86FE-CC8EBEB5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DDC-329D-443C-8181-D39088D4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F724-EBC5-405D-8D04-9C706E6A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A579-420F-4BC7-840D-FEC7D35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2143-2CD9-474F-8574-CC2121E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AF09-6D2C-455D-B5B2-381F6BA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F12A-7411-455A-8AE2-32481E5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27C0F-5661-4DC3-A509-C3B460A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8D02-765B-42C8-A758-A0B5A61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A74B-9071-4151-9A60-09F76828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6369-F232-4997-98FB-89F0065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C073-A1F1-4BDB-8402-B7D28642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426-1C88-436F-86FF-02EB447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92A4-A4E0-445E-B3C6-F8BFC520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A053-266E-413D-9619-C20A8A0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3B9F-B01D-4589-86FC-E1A4A65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9774-2356-4D8B-AE1F-17D595E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E74D-BD4A-432A-B56E-5316C9C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FD42C-7B68-457B-B089-C1B7F41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98D9-D755-408E-83F6-F465660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F4147-5C82-47BE-93FA-DB5D256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C46E-16BE-49AC-A568-C18361A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DE48-A060-4714-B20D-195C1B3A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2F0-0C7E-4A3E-BDC0-4D60E13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83E8-ED72-40CC-9A32-3EC49CA5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29984-2874-4712-978B-08822109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B730-1836-4D46-AF39-51966077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8032-59F1-46FD-A4E1-2669246A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EF769-E4BC-4CF9-901C-F074E750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903F-B901-45D3-B042-A58E181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27A1-B39C-4899-BA31-23094573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042B-7EA9-4885-92DA-70E7407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2339-9FEC-4340-83D4-31B1468D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12F3-9972-4A73-8AA5-D0C23129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BF4-9CB5-40A6-90AF-9731E30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CF1C-04FA-4FD6-82F2-8FA97F0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E995-0282-40CA-9094-C30080D6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8BF3-643C-4F6F-8F88-1E5E877A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216-2D44-4F66-9A97-A41F02C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C2D-1DCA-4E8C-B8B2-689C5405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13B-5389-4EF9-8B4B-AAAADD37DB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218-CE4E-47E6-AD32-988FAEEC17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FDD-060B-4408-80E6-CB8FC54E3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F55-2C7F-4257-89DE-B20FB8AAC5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00D5-DC07-4764-B96E-4C0DA20C61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E50E-8E25-412B-A930-816322287D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252360" y="2997360"/>
            <a:ext cx="9648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9900"/>
                </a:solidFill>
                <a:latin typeface="Tahoma"/>
              </a:rPr>
              <a:t>Электронный учебник по черчению с использованием</a:t>
            </a:r>
            <a:br>
              <a:rPr sz="4700"/>
            </a:br>
            <a:r>
              <a:rPr b="1" lang="en-US" sz="4700" spc="-1" strike="noStrike">
                <a:solidFill>
                  <a:srgbClr val="ff9900"/>
                </a:solidFill>
                <a:latin typeface="Tahoma"/>
              </a:rPr>
              <a:t>Auto CAD</a:t>
            </a:r>
            <a:br>
              <a:rPr sz="4700"/>
            </a:br>
            <a:r>
              <a:rPr b="0" lang="ru-RU" sz="4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азмеры окна теоретической части урока настраиваются пользователе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13461" t="2539" r="1923" b="0"/>
          <a:stretch/>
        </p:blipFill>
        <p:spPr>
          <a:xfrm>
            <a:off x="1476360" y="1433520"/>
            <a:ext cx="6219720" cy="542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6553080" y="3505320"/>
            <a:ext cx="990720" cy="533160"/>
          </a:xfrm>
          <a:prstGeom prst="ellipse">
            <a:avLst/>
          </a:prstGeom>
          <a:noFill/>
          <a:ln w="2844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Описание. Учебник по 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utoCad 2000 (</a:t>
            </a: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часть 1)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2280" y="914400"/>
            <a:ext cx="3810240" cy="1371600"/>
          </a:xfrm>
          <a:prstGeom prst="rightArrow">
            <a:avLst>
              <a:gd name="adj1" fmla="val 50000"/>
              <a:gd name="adj2" fmla="val 6944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2136" r="23076" b="0"/>
          <a:stretch/>
        </p:blipFill>
        <p:spPr>
          <a:xfrm>
            <a:off x="0" y="2859120"/>
            <a:ext cx="4191120" cy="39988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полнение практического упражнения к уроку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114800" y="685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1295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бочий чертёж пользователя с развернутым окном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4648320"/>
            <a:ext cx="4572000" cy="2209680"/>
          </a:xfrm>
          <a:prstGeom prst="leftArrow">
            <a:avLst>
              <a:gd name="adj1" fmla="val 50000"/>
              <a:gd name="adj2" fmla="val 517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1055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зультат нажатия кнопки «А что должно получиться ?»  и кнопки «Свернуть» , сворачивающей окно задания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rcRect l="-2562" t="0" r="0" b="428"/>
          <a:stretch/>
        </p:blipFill>
        <p:spPr>
          <a:xfrm>
            <a:off x="4952880" y="1295280"/>
            <a:ext cx="4191120" cy="3051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равка по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utoCad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2000 на русском языке , созданная с помощью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Microsoft HTML Help Workshop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772400" y="3276720"/>
            <a:ext cx="762120" cy="152280"/>
          </a:xfrm>
          <a:prstGeom prst="ellipse">
            <a:avLst/>
          </a:prstGeom>
          <a:noFill/>
          <a:ln w="936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rcRect l="0" t="2702" r="24327" b="0"/>
          <a:stretch/>
        </p:blipFill>
        <p:spPr>
          <a:xfrm>
            <a:off x="0" y="1639800"/>
            <a:ext cx="5715000" cy="5218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 flipV="1">
            <a:off x="4876920" y="1905120"/>
            <a:ext cx="3124080" cy="137160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924360" y="2225520"/>
          <a:ext cx="5003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25520"/>
                    <a:ext cx="5003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50920" y="1341360"/>
          <a:ext cx="48258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341360"/>
                    <a:ext cx="48258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580000" y="1144440"/>
            <a:ext cx="3095640" cy="936720"/>
          </a:xfrm>
          <a:prstGeom prst="leftArrow">
            <a:avLst>
              <a:gd name="adj1" fmla="val 50000"/>
              <a:gd name="adj2" fmla="val 826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еню учеб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4960800"/>
            <a:ext cx="3240360" cy="1341720"/>
          </a:xfrm>
          <a:prstGeom prst="rightArrow">
            <a:avLst>
              <a:gd name="adj1" fmla="val 50000"/>
              <a:gd name="adj2" fmla="val 603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зультат нажа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нопки учеб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60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Описание. Теоретическая часть учебника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равочная систе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0920" y="1974960"/>
          <a:ext cx="460836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74960"/>
                    <a:ext cx="4608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4643280" y="1125360"/>
          <a:ext cx="374508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125360"/>
                    <a:ext cx="3745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076720" y="3716280"/>
          <a:ext cx="3743280" cy="28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716280"/>
                    <a:ext cx="37432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95280" y="1052640"/>
            <a:ext cx="4032360" cy="720720"/>
          </a:xfrm>
          <a:prstGeom prst="rightArrow">
            <a:avLst>
              <a:gd name="adj1" fmla="val 50000"/>
              <a:gd name="adj2" fmla="val 1398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зультат нажатия кнопки мен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5516640"/>
            <a:ext cx="4032000" cy="1152360"/>
          </a:xfrm>
          <a:prstGeom prst="rightArrow">
            <a:avLst>
              <a:gd name="adj1" fmla="val 50000"/>
              <a:gd name="adj2" fmla="val 874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зультат нажатия кноп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аница учеб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50920" y="4157640"/>
          <a:ext cx="360036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57640"/>
                    <a:ext cx="360036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5148360" cy="3384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4572000" y="105264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4572000" y="415764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708360" y="6669000"/>
            <a:ext cx="934920" cy="0"/>
          </a:xfrm>
          <a:prstGeom prst="line">
            <a:avLst/>
          </a:prstGeom>
          <a:ln w="381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1125360"/>
            <a:ext cx="863640" cy="144720"/>
          </a:xfrm>
          <a:prstGeom prst="ellipse">
            <a:avLst/>
          </a:prstGeom>
          <a:noFill/>
          <a:ln w="1908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1268280"/>
            <a:ext cx="2808360" cy="648000"/>
          </a:xfrm>
          <a:prstGeom prst="line">
            <a:avLst/>
          </a:prstGeom>
          <a:ln w="1260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181080" y="3573360"/>
            <a:ext cx="4859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При нажатии кнопки «приложения» появляются различные таблицы и справочные данны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573360"/>
            <a:ext cx="4572000" cy="647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84360" y="1125000"/>
            <a:ext cx="574560" cy="251964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563640" y="4149720"/>
            <a:ext cx="576360" cy="100800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27640" y="4149720"/>
            <a:ext cx="431640" cy="57636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92720" y="189000"/>
            <a:ext cx="385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Задания ученик чертит на бумаге, выбрав уровень, который ему больше всего подходит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292720" y="476280"/>
            <a:ext cx="3610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нажатии ссылки на какую либо главу. Выходит краткое и понятное объяснение данного материала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148360" cy="33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1763640" y="1700280"/>
          <a:ext cx="48769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5173560" y="3716280"/>
            <a:ext cx="3970440" cy="3484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116000" y="907920"/>
            <a:ext cx="3311640" cy="289080"/>
          </a:xfrm>
          <a:prstGeom prst="ellipse">
            <a:avLst/>
          </a:prstGeom>
          <a:noFill/>
          <a:ln w="936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19640" y="1125360"/>
            <a:ext cx="647640" cy="71928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12000" y="3284640"/>
            <a:ext cx="431640" cy="50472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3068640"/>
            <a:ext cx="2303640" cy="289080"/>
          </a:xfrm>
          <a:prstGeom prst="ellipse">
            <a:avLst/>
          </a:prstGeom>
          <a:noFill/>
          <a:ln w="936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1989000"/>
            <a:ext cx="24112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торый сопровождается рисунками для того что бы лучше усвоить материал усвоить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c"/>
              </a:rPr>
              <a:t>Тестирование учащихся после изучения теоретического материал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933640" cy="7430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940360" y="1268280"/>
            <a:ext cx="295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и нажатии ссылки теста выходит окно для запроса вводе пароля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2421000"/>
          <a:ext cx="2952720" cy="19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421000"/>
                    <a:ext cx="295272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5867280" y="2421000"/>
            <a:ext cx="2952720" cy="1922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95280" y="2060640"/>
            <a:ext cx="2736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ал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348000" y="2781360"/>
            <a:ext cx="237636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алее ученик Отве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вопросы, котор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случайном поряд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ему задаёт те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556000" y="3933360"/>
            <a:ext cx="5761080" cy="64764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4581360"/>
            <a:ext cx="4321440" cy="1368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ле ответов и нажатия кнопки провер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ходит оценка, и запрос пароля на вых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з теста. Это сделано для того. Что б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сключить моментальный выход ученика и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еста при получении плохой оценки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952720" cy="76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0" y="5300640"/>
            <a:ext cx="936720" cy="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0360" y="1268280"/>
            <a:ext cx="273528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492360" y="1628640"/>
            <a:ext cx="2232000" cy="0"/>
          </a:xfrm>
          <a:prstGeom prst="line">
            <a:avLst/>
          </a:prstGeom>
          <a:ln w="936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00680" y="11970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схема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Данный учебник наиболее эффективно и целенаправленно развивает наглядно — образное мышление, имеющее важное место в любом творческом процессе, т.к. новое решение предстает перед мысленным взором в виде картин, схем. моделей.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Кроме этого, в процессе изучения данной дисциплины совершенствуется репродуктивное и продуктивное воображение, проявляющееся в создании объемных образов реального мира и построении новых (моделирование, конструирование, преобразование и т.д.)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Авторы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учащиеся 9-Б класса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ОУ «Гимназии №48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33577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Власов Семён Владимир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Боровых Михаил Серге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лободенюк Валерий Валери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аучный руководител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ирошниченко Ирина Анатольев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черчения и технолог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сшей категории МОУ «Гимназии №48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Цели работ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оздание удобного в использовании электронного учебника по черчению с использованием САПР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utoCAD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2000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Закрепление и расширение знаний полученных на уроках информатики в среде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isual Basic 6.0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черчения в теоретической и практической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оздание справочной системы в формате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TML Hel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оздание дистрибутивов программных проду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Закрепление знаний в программной среде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werPoint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152856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ahoma"/>
              </a:rPr>
              <a:t>С развитием технологий всё чаще приходится иметь дело с компьютером. Без хорошего образования трудно себе представить жизнь человека. Наш учебник поможет наглядно, просто и поэтапно объяснить материал урока черчения и научить работе с одной из известнейших инженерных программ 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utoCAD 200</a:t>
            </a:r>
            <a:r>
              <a:rPr b="1" lang="ru-RU" sz="2800" spc="-1" strike="noStrike">
                <a:solidFill>
                  <a:srgbClr val="ffcc66"/>
                </a:solidFill>
                <a:latin typeface="Tahoma"/>
              </a:rPr>
              <a:t>0. В нашем учебнике содержатся  различные рисунки, графики, чертежи, видео уроки - которые более наглядно и понятно и смогут отобразить материал учебни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4000" y="0"/>
            <a:ext cx="86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ктуальность работы и возможность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ктического применения: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Использование новых информационных технологий обеспечивает создание,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редактирование, хранение, тиражирование графических изображений с помощью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различных программных средств. Поскольку идет подготовка выпускников к жизни в обществе,   построенном на   системе   рыночных   отношений,   способных адаптироваться к быстрой смене требований рынка труда, им необходима основательная подготовка, обеспечивающая их трудовую мобильность, повышение квалификации и смену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0"/>
            <a:ext cx="8605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ктуальность работы и возможность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ктического применения:</a:t>
            </a:r>
            <a:endParaRPr b="0" lang="en-US" sz="1800" spc="1" strike="noStrike">
              <a:ln w="158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Для создания учебника были использованы программ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Visual Basic 6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FL Studio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PhotoStudio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HTML Help Works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AutoCAD 2000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  <a:ea typeface="MS Mincho"/>
              </a:rPr>
              <a:t>CamStudio2.0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MS Minch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no Setup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5.0.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DIVX 5.02 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«Учебник по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toCad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2000»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работы с учебником необходимо установить следующие программ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MS Mincho"/>
              </a:rPr>
              <a:t>AutoCad2000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MS Mincho"/>
              </a:rPr>
              <a:t>для   выполнения практических упражнений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MS Mincho"/>
              </a:rPr>
              <a:t>видеокодек  Divx 5.02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MS Mincho"/>
              </a:rPr>
              <a:t>для  запуска видеоуроков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комендуемая операционная система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ndows 2000\XP\9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Требуемое свободное место на жестком диске : 500 М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Разрешение экрана : 1024х7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2343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26319" r="18163" b="0"/>
          <a:stretch/>
        </p:blipFill>
        <p:spPr>
          <a:xfrm>
            <a:off x="228600" y="1295280"/>
            <a:ext cx="4876920" cy="3294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974680" cy="213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200400" y="4114800"/>
            <a:ext cx="1676520" cy="0"/>
          </a:xfrm>
          <a:prstGeom prst="line">
            <a:avLst/>
          </a:prstGeom>
          <a:ln w="28440">
            <a:solidFill>
              <a:srgbClr val="ee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580920" y="4114800"/>
            <a:ext cx="1295640" cy="68580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8920" y="692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Установка и настр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зможности программ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бор  по темам любого из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ов 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Cad 200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я чтения теоретической части ур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общей справки 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cad 2000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усском языке с удобным поиском в окне практического упраж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уск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cad 2000 c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грузкой практического упраж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монстрация  одного из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еоуро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20692" t="20984" r="16266" b="18031"/>
          <a:stretch/>
        </p:blipFill>
        <p:spPr>
          <a:xfrm>
            <a:off x="0" y="1981080"/>
            <a:ext cx="4648320" cy="33721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H="1">
            <a:off x="4038120" y="1981080"/>
            <a:ext cx="762120" cy="53352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114440" y="1981080"/>
            <a:ext cx="685800" cy="243864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1080" y="4572000"/>
            <a:ext cx="2743200" cy="137160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505320" y="4800600"/>
            <a:ext cx="1218960" cy="76320"/>
          </a:xfrm>
          <a:prstGeom prst="line">
            <a:avLst/>
          </a:prstGeom>
          <a:ln w="28440">
            <a:solidFill>
              <a:srgbClr val="ee06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2:48:51Z</dcterms:created>
  <dc:creator>валера</dc:creator>
  <dc:description/>
  <dc:language>en-US</dc:language>
  <cp:lastModifiedBy>Class</cp:lastModifiedBy>
  <dcterms:modified xsi:type="dcterms:W3CDTF">2005-10-31T06:11:02Z</dcterms:modified>
  <cp:revision>16</cp:revision>
  <dc:subject/>
  <dc:title>Электронный учебник по черчению с использованием Auto CAD  </dc:title>
</cp:coreProperties>
</file>